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8FB2-54E7-4357-96A3-C751FFED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3CB5-8979-419F-B261-ADF2B2E1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851-02E2-4E2E-B0A3-915E9C90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526-415D-4A84-BBE2-50EFDE1D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BA2B-570B-49A1-B4C7-3C007F08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C93A-9DB1-4A5F-A1F6-CE908BFF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7B9D-1585-4F15-B712-BA235FEF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8AD5-E75B-4F71-8E77-38BEAE90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19E2-8EB3-4D92-B3A2-236DB4D0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12A3-61F4-4250-A31D-5556DA6C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6B41-19E8-4D20-89A4-069F1E91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94C-BD0C-4C96-8ADE-A7CA0E43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EFA2-4661-459C-9C80-DF3E4DBE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106E-90DF-4CE6-98CF-E8F25478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9BF8-551D-4064-8B4A-AEBF8303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BFAB-958E-44A7-A748-E3796FA9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7CD5-E000-4530-B572-EB59DB9A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D24C-8C54-42B1-A8BC-DCA5562E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8B1-2A63-406C-A82D-B5B1C303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D2B3-650D-42E7-A8C6-706943E3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D03-FAAF-430D-9DD3-0D374E8C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A60-35BD-484F-8673-654582BD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E4C-6DCF-405E-9486-7A667172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408-FEFB-47D6-830E-3AF4C955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C1DA-AE21-4C0D-86FB-BB4FFBD099D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8C02-8BFF-4D09-B45E-B75FC66DF21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hapter 5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How ecosystems work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itrogen Cyc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 by which nitrogen is transferred between the atmosphere, bacteria, and other organis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itrogen make up 78% of the gases in our atmosphe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itrogen-fixing bacteria- the only organisms that can turn atmospheric nitrogen into useable chemical compoun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ll other organisms rely on these bacteria for surviva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you were scared of bacteria…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880" y="277920"/>
            <a:ext cx="838224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Phosphorus Cyc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e movement of phosphorus from the environment into organisms and back into the enviro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his cycle is slow and does not occur in the atmosphe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en rock erode, phosphorus is released into water, plants absorb the phosphoric water, organisms eat phosphoric plants, organisms die and decompose, phosphorous is released to the environ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277920"/>
            <a:ext cx="838224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cid precipi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we burn fuel, we release nitric oxide into the ai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en nitric oxide meets oxygen and water it forms nitric ac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itric acid falls in the form of rain and snow and harms the environ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cological Succ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adual process of change and replacement of species in a commun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mary Succession- type of change occurring where no ecosystem occurred before the chan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ary Succession- occurs where ecosystem has been interrupted by humans, animals, or natural forc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condary Succ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ioneer species- first new species to colonize an available and begin ecological succes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max community- final and stable community after succes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ount St. Helen- 1980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ruption destroyed 44,460 acr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ers and small plants initially inhabited the are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w trees and shrubs are grow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046840" y="1600200"/>
            <a:ext cx="3240000" cy="2189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040360" y="3941640"/>
            <a:ext cx="325440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assroom Activit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 the Case Study on pgs. 130-13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nswer the two critical thinking questions at the end of the case stud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ld Field Success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238400"/>
            <a:ext cx="8610480" cy="52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depends on the su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otosynthesis- process by which sunlight is converted into energy filled molecul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sure to know the formula for photosynthesis- pg.117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ergy is transferred from plants to consumers when their leaves are eat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plants hold carbohydrates (energy filled sugars) in their leav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ducers vs. Consum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duc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kes own foo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uto-troph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lf-fee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ttom of food chain…most of the tim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um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at others for energ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eterotroph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erbivo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at producer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rnivo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at consumer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mnivo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at both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compos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Breaks down dead organism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Food Web Activity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his is a classroom activity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eaking down food to produce energ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ccurs in the cells of most organism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ell absorbs oxygen and releases energy from foo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formula is the opposite of photosynthesi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Energy Transf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ch time an organisms consumes another, energy is transferr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s energy enters the next trophic level of an energy pyramid, energy is lo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 are fewer organisms at the highest trophic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 by which carbon is cycled through the atmosphere, land, water, and organis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7848360" cy="3429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ere is the Carb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ducers hold it in the form of carbohydrates that are eaten by consum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umers release some carbon through respiration as carbon dioxid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rbonates make up shells and bones of anima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imestone is made of carbon, it is the largest carbon deposit on ear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me carbohydrates are stored in fats and oils and other molecules to store ener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he carbon in these molecules can form coal deposits, oils, and natural gas known as fossil fu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ssil fuels are carbon deposits that have been stored for millions of yea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happens when we use fossil fuel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tra carbon dioxide is released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d levels of carbon dioxide could lead to global warm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’t panic…this just means a gradual increase in the Earth’s temperatu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8288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OS 2,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9T03:09:28Z</dcterms:created>
  <dc:creator>Adam's Homepage</dc:creator>
  <dc:description/>
  <cp:keywords/>
  <dc:language>en-US</dc:language>
  <cp:lastModifiedBy>Adam's Homepage</cp:lastModifiedBy>
  <dcterms:modified xsi:type="dcterms:W3CDTF">2008-06-29T05:14:38Z</dcterms:modified>
  <cp:revision>3</cp:revision>
  <dc:subject/>
  <dc:title>Chapter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611033</vt:lpwstr>
  </property>
</Properties>
</file>